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chimes.wav" ContentType="audio/x-wav"/>
  <Override PartName="/ppt/media/image9.png" ContentType="image/png"/>
  <Override PartName="/ppt/media/laser.wav" ContentType="audio/x-wav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F5E6-B45D-4C65-9CD4-55D9504BF1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E954-C049-4DB6-9F2B-26244651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08A683-0D43-4A4B-8E21-0670291A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80EE02-5692-4BDC-887D-7F205DED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ACF0FD-6B0E-434E-A4A2-211AC31A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20114E-6930-4452-A31E-F214017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6C6C10-23CA-4165-B9A7-E37A1C7B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7B99E7-C4F0-4CE1-8641-2072659C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B6868D-6AC3-4648-98A4-A0A4A778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20F17C-3294-49A7-B8D9-36BC7F78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0324AB-A456-4A10-8369-B4C46A01E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4771C-A094-4DA7-A378-C6BF5732D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5AF7-F298-41CB-8A5D-1609BBC0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09B90-2939-458B-BEAA-066DC5E1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78E47-5812-4601-9C79-FA733DA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FD637-0F90-49C2-9305-4B5C1EF6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53D20-04BE-4B0E-BDFF-6E216358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89635-AC86-4545-8056-84AA1EC3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1AF7C-E85C-45C1-97A9-194BB9B8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4E0A5-BFB4-4B7E-92DA-EFACC509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953B-4124-4767-A1B7-BD0B70E3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EAD71-1408-463F-938D-DFD65005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DB9D1-C370-4891-9D01-D6CEB61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7D9F-B805-4CE5-AC84-612DC2B71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C4F87-16E0-4A07-95D0-E2E88563B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8FFE2D-2CCC-40C6-B548-7E6F8C2B0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AA8B36-11B2-4536-9D91-DC3A2A35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D5C9F-0B36-4FD6-94F7-FD47C885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AF048-8F20-407D-BE08-EFDB7F5B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9B9174-EFE0-47AA-AB6D-1EDF98C6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95AA75-0747-4344-824D-B8628DBF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B2179-FC53-43DB-8A17-9DC5CC5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6CE64C-504F-479E-94EE-05CD8020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D54DB-F409-422A-AED0-A9255334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86C0A-919C-4B5B-A4D2-5976EBB1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C95A6-A414-4D76-AB45-F12DD6C3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EFC81-C2C4-438F-A13B-0E10D09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6A5837-62C5-4EB9-BB38-93CC3C5B3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0AED3-0009-43EB-A5BA-FC02CE6B8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B79BC-D522-4974-84E9-99C10D1C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C054E-F50B-47B5-960B-45EC527A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0711F-066C-4652-9220-AF5F5C4A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6451D-9DAB-44EC-8DDE-4F3AF020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FD0A0-1568-49CC-99CD-57DE3366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8E42E-5F22-46ED-86D6-F1A06D06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B68A1-2247-4BD4-B015-62383241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E9B2D-F586-498B-BA11-A8175E1A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8993E-2313-419D-B8E1-2CE70BB6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D47DB-D9B4-413A-BB76-E64B4012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7ABDE-4375-4C8D-805A-9E7E21D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22C81-CB02-4083-9F51-2661179C7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C47C4-315C-4C5A-8455-DF3325AECF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D582C-B165-4DB0-BCAD-B6FD630B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EE115-4662-49B3-8D6B-BA6B8035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F7D01-F162-4147-A2A2-699F798E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DB5FE-AA6D-42D2-95BA-EBC9AF94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B1AA6-AC67-4BCC-8D78-05FFA6EB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A7D0-831F-478D-A5D0-349835A2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30BB2-9F5D-4B5C-AAD0-A8ACCF45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3B581-7BC0-4C85-B286-E4A00E1F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9CA7D-73E3-4457-96D2-1A2D70A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A0DFE-B69A-4B50-90EA-023E4238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481D-F901-47BF-A38F-EE61C482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7B493-41A2-47F5-9C35-BE2F373A4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55D69-DF22-4A34-9693-CF1D32C6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66EEC-EB4B-413E-ACFA-06B736BF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96CAD-05D9-4752-B1F5-C0DD4D56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FFB0F-3A13-4A5E-BDF3-DD7E62D1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0D368-EC1B-4D41-895F-4FB8B3FC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AC146-AB68-4287-B8BE-1853CC21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C9F77-2D6D-41D1-AD58-23B17796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52400-041B-47C7-8341-AC07F03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0AEFB-2AF7-4A00-A344-75FF4918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DD776-1CD7-4351-BCDA-62768F5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ACA8C-248B-45C6-B454-C18B0D90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C5F1F-8B45-4399-B554-90CA56C1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A2A11-588D-48F4-AA5B-43FA458F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016A6-36C0-44E0-A9C3-9E77E44B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A61D-C4E2-481F-B9B2-66D1959D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BBE86-F28A-45B6-904E-034544B8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2606F-DB51-4114-8AC6-A33B31E9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1D590-F514-4DFC-8D95-8617C0A1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51DE2-DD55-4331-950D-9E43384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CA2E8-5948-4856-A205-90A26787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0221C-A901-47D6-8913-A613CC7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B7404-E966-4F15-AFBD-6BA16B31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2D33E-DE89-422B-AEBE-9E2F25B3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44E7D-0A35-462D-88D2-66880F36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F89E1-592A-48E0-B54C-E5192F04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6E0CF-91CB-4851-8B4A-EED5C9AE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0BEAF-DD20-4F44-BA80-601136A5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BA66D-28ED-4CD3-83E6-2BE1E0C9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73D40-D782-4E18-9BC2-C99A4450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4D2A9-9EEF-4F13-A6B6-0486D8BE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65C3F-4F4F-4F8B-A2DF-D4B9044C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F8D1C-2E5F-432D-B188-2AE5FD00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FD235-D511-4B51-B188-16117FB1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47D5E-1CD7-40B9-87AA-B5AA139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92884-9625-465E-A257-4B2AFEC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72E54-13F3-4FBA-8FDC-E2944FF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2FEA0-B148-42B8-9473-FECE9791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F177B-078E-4DF6-88D5-E891F192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D111F-7988-41DF-898F-817E3FC1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4B2F5-4D57-4E9E-AE6B-22951018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7EE06-2E73-40D5-8D74-16C833A4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F1792-51AA-4F90-818D-0353F01D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2063F-AA06-42C8-805A-BDE417F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629B4-FB99-4975-90BD-10909A0F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04883-AE60-4D96-A67C-2A35B5A1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A8429-53C9-4DD9-9395-20E0132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85C93-7D79-495C-8835-192AECE2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EA36-E64A-4021-BBD0-6EFE5A79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6DB9D-D469-47E9-B0FE-E0DB13CB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74F29-D487-47D1-918A-8914F293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2982A-2F91-491E-8B90-0837B89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90908-E5DC-4EF5-A90F-727D8E33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D832D-27D1-4C51-A988-6EF2279A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790E2-CB4C-4EAE-ACF1-B9AF7A15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BFC1C-8615-4584-BC0C-6317A4CE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4A92C-2B9C-4CFB-9946-6A91519C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38130-66E0-45D5-B9E9-FD1FC5D6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D9CB3-3A37-49F2-A9D2-D307301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D2B7F-F4DC-4BA3-9343-FD30602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9D024-8B8D-4992-B0DF-1AA84208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71FA1-C686-4AE4-A43D-5900AB0C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C0393-ABA2-44B0-961F-EC75ACB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2C9EA-CD29-41A1-B8E8-F903811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7AC80-0B25-4CCE-B727-1ED15B2E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5827E-AF4C-4808-98AD-86BE1C80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5A39A-2290-439F-814D-E7396381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85F50-7A47-4E1E-BD64-09F932D4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D824C-27EB-4609-BD56-29DFD2DF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46DDF-EA95-4184-917F-9CCC2040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7CC5C-3AEE-4514-9BCF-25FE81D1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2DE06-D185-49E5-9C68-4F1B979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1EE42-44CC-4532-8474-28616C8B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EEA43-1FE8-48B9-A44B-D23E137D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03DEB-81E4-4F7C-8FD0-F00B1E7D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8FF41-47C2-4D3D-AF1F-23A87E67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96DFE-0A2A-4D3F-A44E-691AEF49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544FB-7CD8-4221-B97A-62AEA9C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539DD-91C2-42E8-9F6F-B0860A70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F581C-B60D-4644-9236-78B5970A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029C1-8F41-47E0-A467-83092C87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41D80-F8B6-47DE-9C7C-11C49F9E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FC0EE-07DF-451A-9F2F-0B916CFE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EC7AB-3B47-469F-9A9A-82069FF2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4AFC6-CCEE-4825-B6AD-8B0CDA36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90B95-4319-4A4D-9B26-1D6DEC87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62C7C-8D56-4FEC-85C1-1DDAFB8D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A9D36-4252-4E5D-A26C-21240D9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F9608-8EBF-475A-9452-AB4B051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A7B90-BC16-451E-BE38-B55C376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EBADD-A09D-4718-B863-B5EFC20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B38A4-A605-4918-B192-9C8F8D1F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1F490-ACF6-4637-80A1-E2BBCB65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E960-6405-4AA7-8572-2455B31C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A670E-E4BF-4121-9F95-56D2CD0C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09DC9-8D60-437C-81BC-7B12B22C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1DAE5-B67C-470C-891B-92C30C3E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92D98-F4DC-4EB0-8DC2-763420B0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06A04-48FA-4AA0-8D5A-EDCF703D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770EF-D301-4E0D-A5D1-DB9E7422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439F1-E8C1-442C-A9CD-60BECFD3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86D8F-186F-4117-A585-177157B5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F3A87-7934-4280-B8B1-BDDAFCC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6027FD-703F-43F2-A6ED-EAF2512A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15F28-EF55-4388-9964-A3E997E15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31F56-413E-4356-AA08-9FBA9D7A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1763D-FEC0-4976-B79F-0B8A18AF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E6A98-A0BA-4D43-A60C-C9B87822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001A6-A3DE-4E92-BFDD-C750FEFB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FCB35-7F3B-4DD4-8578-18E0F505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7664B-BAAF-4410-9FFC-F534C952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AEC46-A89B-4D09-A875-A68EE4B7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3364E-7093-4505-9CAC-A77231C3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B7C4D-15FE-49EE-A1C7-0649F1C6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E3B05-C1B8-4A16-ADDA-A8658B8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4A5C3-F7A4-40B8-8349-57DF68A6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9EA13-AE7F-4225-9B61-3A70F0C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28447-FBE1-49E2-8BCA-4E4B08B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2E9A1-925A-4ED9-841D-EC82F6B0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8C12D8-B1D3-464D-B043-CAA0D974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602D7-9D40-4C77-8FB2-99245F2C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7B293A-31E6-472C-ACBF-766CE192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4ABE7-BB5E-422C-9BD9-2919C60A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3A235-499E-44A4-98D1-BD8368D7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430D40-240A-4D1B-93AB-A8360EC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78C12-7E0F-479C-A1C8-EABD9BA3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A35C3F-A66C-4692-8D7F-94BFA3F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7DD1A-758F-4CF1-9A59-81C0F64D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470EF-CC60-4BC0-BC37-BDCF138C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F9C65B-8FCC-4809-B84F-8099F298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5D03C-8DE0-45EB-9C95-309074E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DACAA-F70E-4989-BDB6-42C2057D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F7493-8FF9-40B3-A7F7-97CC394F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248BEE-11CF-495E-8D94-DD6A4648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2F648-CD26-4DF0-AC49-285B6D07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CC35A-911C-4480-B91E-C60C7D53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279B5-FFD7-42C8-BBB3-7378DE3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6AD65-48BA-40D1-B3F0-33F30129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1D790-1378-4DDB-A0BE-D0DD9D31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B3DAD7-995A-42D5-93FE-76BD55F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EA745-7B01-48C6-9657-EE7A829D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FBF11-E0E2-4CEF-82CE-852F668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B485BB-8CBE-4B02-9CFE-DC45BB91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3C583-C1E3-4B6D-BF83-B798FF15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D6800-DADA-4B71-9C97-0011860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765D1-19C8-4C8F-AA9A-556C7163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80EC3-7555-4112-A5A8-1A916C64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6C7D4A-3617-4901-BC38-228AE189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F907-4157-4FBA-AE28-47CAA56F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0A9B67-2B3D-4403-8572-B47CB97F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660CFD-B98D-45A4-8FED-3BCC2862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24895-04A3-4D9C-85B6-03211300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BCDF8-03C5-459B-BF1F-65A5BF5B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840644-D82D-4E60-8119-F054A8B6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00FDE-2876-4698-BC20-BB01A1E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38DCE-3478-4790-8AD4-C577771B7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6994-4CBC-43F4-B920-0C5654E83C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64A1-1CA9-49AD-8F46-D430018B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8658-38C3-43BE-9293-02796762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B280-0E65-42F4-BE60-02688F19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E9F7-361B-4B6A-8322-0D5EABA3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8C27-82EF-42C3-A1F2-6FBF0AFA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1654-B038-4E6F-9DF3-7D9C932B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3FBF-4261-4A9F-A48B-5CB8875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D4CC-09A0-455D-8EE8-3ADBA4E0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8576-86A4-4108-B9A6-30B6AC07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5C33-5ED7-43AB-9732-F56BF663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8C4F1-9AA7-4B4E-B2D7-D74029CC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642A-F289-4D32-8C94-1F03AD0DB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B5CC5-62FE-4E09-9BBE-3B1DA53D0E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ACB3-65C4-4FC1-BBAC-937C96F3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DDE28-2AF5-4443-8096-79D5001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1F23D-EB1B-4CF4-9D18-9EE49406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8795A-C513-46D8-863E-CC56259B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21243-160C-49BE-A7C5-E141C8E4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6181E-0993-4C9A-AF82-D6CB81B7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64F2B-31F5-4F60-AA51-45FED42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F6589-7A7B-489B-AB32-1127BD0B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066CB-1628-4C81-AA75-43EAA5FB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FEB3F-90A7-4DC7-BDF1-A91DF05D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96435-A1A0-4F54-9C6A-E28973F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A3C2-382F-45D7-A7F1-957572D2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06D1F-D5E0-46E3-B09D-7B53A2E08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53C3F-FA69-4F25-9FB8-D3667DA65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60EE7F-BF2C-4300-9E03-55E6FBEB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C3BA0-1F2F-4FFD-9A40-EC2BF77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EC8999-50FD-4479-B964-1B9E16A6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CEC0A-0288-464A-A38A-C3598188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5A3AC7-FB11-45B1-BA69-63736CC1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519A34-6201-4C71-A919-52E37113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8512C7-659C-4BAC-8815-AFF5989B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3F4CB-35F2-47DC-9455-E983A258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8DCB-E425-4A08-9A89-C4B612DB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19ACC3-E1C5-4CAB-B23C-6DDC5980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931247-D56E-4184-98A9-5D6E072E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33B67-C70C-41F1-940A-3F3CF4B05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AE06-5551-4E1F-BDA2-2F20E074BF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CB3A1-4F07-4CB3-80D1-EF4340A4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2FAB-81B9-4DBB-A509-81978B84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64FA-3D3E-4E96-8CA3-8D89DF59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17E8-5D4B-40DE-8D1C-C24DB7AC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325B-8D58-46C9-AAD0-E4A66B40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B0BA-877F-482C-A67F-8FA1CB6C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C1D7-BDCE-481B-98C3-3C67A342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6BDF-FAB2-4D7B-9F73-07DFE720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44202-E1A1-4E93-9335-6763B17E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1A8A-CFB0-4FCA-AA79-7BF705B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3F278-E23C-4B7D-81A6-0E9362A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AB052-6EC6-4331-A4D3-964D272E1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C617A-9892-4176-B4CC-AC48011C5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88410-FEEA-4C46-8F9B-10363FF5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C649B-C706-4646-95A7-5A39045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60B81-8952-4F9E-B9FF-C315618E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81031-2931-40AB-BACB-B5833622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2792-2B62-4637-A1CD-5EF81D9C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94F22-B726-4BE8-B001-DC66BCC6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DEE3C-7911-49D7-87E6-ABD201C4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6CCEA-BC62-4D16-80E0-9CF6E213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0AADE-63F2-4C08-83F5-78746F72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8AB72-9097-432B-A63D-58D9D9F6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240B0-A003-4D7B-A65E-8C2E5883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6AE13-8FE5-4812-B74B-4CE10207A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6A9001-C4EC-4D07-8018-1CF771D29C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EB1E61-0DB4-4D56-9463-5B22C682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65D15-0744-4EDB-A7F8-E1CE3CC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49E6-F72F-4205-99D5-44AF2AEC02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F4AE-422C-4A19-8896-D7E7F3D367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E275-CF15-4F44-AE7E-49A91B2279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48B-E7FC-4035-A6F4-FDBBAA73E7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D4A3-C12F-4105-9246-7E70B9D25C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0B5F-C126-4375-844C-5034429751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792C-9A49-4C45-98F3-7A32A05CE4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AC04-4F9C-43EA-8E3F-2ACDBBDC9D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AB5D-F409-4EC5-9DFA-32C812551A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90B9-B0A7-468E-AAAC-07152942BA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40A-24ED-4177-A0AE-FD7E3E05D1E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E7D3-3C8E-4D0D-A067-341E1D3558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917-9DB1-4E78-ADFA-40C9C18D12B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8F74-2DE6-4868-BB36-36BA4A5029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2C6F-DCDA-4A0E-8E1E-53A06B4F01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C6DE-0F52-42D1-93CB-FDCAF35C51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6119-8D82-4E32-A74E-744AA158DF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DB1A-0714-4526-85EE-3A8DA3F243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BE42-78B0-430D-A8BA-A9C320BF40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B535-46DF-4FAD-A5E3-592A8811DB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89BC-B12C-4945-BEBC-40B055C2F5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696B-D9BC-4AFA-8C34-50BB823B23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CE2E-1941-49FA-BC07-7E60173B29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B973-7E7A-4BC8-B3A9-5BA2D99A55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18916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认 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5181480" cy="6120"/>
            <a:chOff x="2284560" y="2448000"/>
            <a:chExt cx="5181480" cy="612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5181480" cy="612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518148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587520" y="1776240"/>
            <a:ext cx="84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~1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9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00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8" name="内容占位符 4097" descr="小鸟"/>
          <p:cNvPicPr/>
          <p:nvPr/>
        </p:nvPicPr>
        <p:blipFill>
          <a:blip r:embed="rId8"/>
          <a:stretch/>
        </p:blipFill>
        <p:spPr>
          <a:xfrm>
            <a:off x="2771640" y="835200"/>
            <a:ext cx="1081080" cy="760320"/>
          </a:xfrm>
          <a:prstGeom prst="rect">
            <a:avLst/>
          </a:prstGeom>
          <a:ln w="0">
            <a:noFill/>
          </a:ln>
        </p:spPr>
      </p:pic>
      <p:pic>
        <p:nvPicPr>
          <p:cNvPr id="1009" name="内容占位符 4098" descr="小鸟"/>
          <p:cNvPicPr/>
          <p:nvPr/>
        </p:nvPicPr>
        <p:blipFill>
          <a:blip r:embed="rId9"/>
          <a:stretch/>
        </p:blipFill>
        <p:spPr>
          <a:xfrm>
            <a:off x="6012000" y="2058840"/>
            <a:ext cx="108108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内容占位符 4099" descr="小鸟"/>
          <p:cNvPicPr/>
          <p:nvPr/>
        </p:nvPicPr>
        <p:blipFill>
          <a:blip r:embed="rId10"/>
          <a:stretch/>
        </p:blipFill>
        <p:spPr>
          <a:xfrm>
            <a:off x="4572000" y="2203560"/>
            <a:ext cx="1081080" cy="76176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4100" descr="小鸟"/>
          <p:cNvPicPr/>
          <p:nvPr/>
        </p:nvPicPr>
        <p:blipFill>
          <a:blip r:embed="rId11"/>
          <a:stretch/>
        </p:blipFill>
        <p:spPr>
          <a:xfrm>
            <a:off x="1116000" y="2419200"/>
            <a:ext cx="1079640" cy="76068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4101" descr="小鸟"/>
          <p:cNvPicPr/>
          <p:nvPr/>
        </p:nvPicPr>
        <p:blipFill>
          <a:blip r:embed="rId12"/>
          <a:stretch/>
        </p:blipFill>
        <p:spPr>
          <a:xfrm>
            <a:off x="6156360" y="979560"/>
            <a:ext cx="1081080" cy="7588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4102" descr="小鸟"/>
          <p:cNvPicPr/>
          <p:nvPr/>
        </p:nvPicPr>
        <p:blipFill>
          <a:blip r:embed="rId13"/>
          <a:stretch/>
        </p:blipFill>
        <p:spPr>
          <a:xfrm>
            <a:off x="4140360" y="1123920"/>
            <a:ext cx="1081080" cy="75888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4103" descr="小鸟"/>
          <p:cNvPicPr/>
          <p:nvPr/>
        </p:nvPicPr>
        <p:blipFill>
          <a:blip r:embed="rId14"/>
          <a:stretch/>
        </p:blipFill>
        <p:spPr>
          <a:xfrm>
            <a:off x="3276720" y="1916280"/>
            <a:ext cx="1079280" cy="75852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4104" descr="小鸟"/>
          <p:cNvPicPr/>
          <p:nvPr/>
        </p:nvPicPr>
        <p:blipFill>
          <a:blip r:embed="rId15"/>
          <a:stretch/>
        </p:blipFill>
        <p:spPr>
          <a:xfrm>
            <a:off x="755640" y="1050840"/>
            <a:ext cx="1081080" cy="76032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4105" descr="小鸟"/>
          <p:cNvPicPr/>
          <p:nvPr/>
        </p:nvPicPr>
        <p:blipFill>
          <a:blip r:embed="rId16"/>
          <a:stretch/>
        </p:blipFill>
        <p:spPr>
          <a:xfrm>
            <a:off x="2195640" y="1555920"/>
            <a:ext cx="1081080" cy="75852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4106" descr="小鸟"/>
          <p:cNvPicPr/>
          <p:nvPr/>
        </p:nvPicPr>
        <p:blipFill>
          <a:blip r:embed="rId17"/>
          <a:stretch/>
        </p:blipFill>
        <p:spPr>
          <a:xfrm>
            <a:off x="7596360" y="1700280"/>
            <a:ext cx="1081080" cy="758880"/>
          </a:xfrm>
          <a:prstGeom prst="rect">
            <a:avLst/>
          </a:prstGeom>
          <a:ln w="0">
            <a:noFill/>
          </a:ln>
        </p:spPr>
      </p:pic>
      <p:sp>
        <p:nvSpPr>
          <p:cNvPr id="1018" name="文本框 4107"/>
          <p:cNvSpPr/>
          <p:nvPr/>
        </p:nvSpPr>
        <p:spPr>
          <a:xfrm>
            <a:off x="395280" y="37260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4108"/>
          <p:cNvSpPr/>
          <p:nvPr/>
        </p:nvSpPr>
        <p:spPr>
          <a:xfrm>
            <a:off x="2374920" y="37260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4109"/>
          <p:cNvSpPr/>
          <p:nvPr/>
        </p:nvSpPr>
        <p:spPr>
          <a:xfrm>
            <a:off x="3365640" y="3726000"/>
            <a:ext cx="5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4110"/>
          <p:cNvSpPr/>
          <p:nvPr/>
        </p:nvSpPr>
        <p:spPr>
          <a:xfrm>
            <a:off x="4356000" y="372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4111"/>
          <p:cNvSpPr/>
          <p:nvPr/>
        </p:nvSpPr>
        <p:spPr>
          <a:xfrm>
            <a:off x="5345280" y="37260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4112"/>
          <p:cNvSpPr/>
          <p:nvPr/>
        </p:nvSpPr>
        <p:spPr>
          <a:xfrm>
            <a:off x="6335640" y="372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4113"/>
          <p:cNvSpPr/>
          <p:nvPr/>
        </p:nvSpPr>
        <p:spPr>
          <a:xfrm>
            <a:off x="7324560" y="3726000"/>
            <a:ext cx="5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4114"/>
          <p:cNvSpPr/>
          <p:nvPr/>
        </p:nvSpPr>
        <p:spPr>
          <a:xfrm>
            <a:off x="8315280" y="372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4115"/>
          <p:cNvSpPr/>
          <p:nvPr/>
        </p:nvSpPr>
        <p:spPr>
          <a:xfrm>
            <a:off x="3713040" y="44607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4116"/>
          <p:cNvSpPr/>
          <p:nvPr/>
        </p:nvSpPr>
        <p:spPr>
          <a:xfrm>
            <a:off x="1386000" y="3726000"/>
            <a:ext cx="5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5"/>
          <p:cNvSpPr/>
          <p:nvPr/>
        </p:nvSpPr>
        <p:spPr>
          <a:xfrm>
            <a:off x="968400" y="117360"/>
            <a:ext cx="22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74722 0.343611 E">
                                      <p:cBhvr>
                                        <p:cTn id="19" dur="2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0 L -0.011736 0.123148 E">
                                      <p:cBhvr>
                                        <p:cTn id="26" dur="2000" fill="hold"/>
                                        <p:tgtEl>
                                          <p:spTgt spid="10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06 L -0.01962 0.27037 E">
                                      <p:cBhvr>
                                        <p:cTn id="33" dur="2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1 0.346574 E">
                                      <p:cBhvr>
                                        <p:cTn id="40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2986 0.220463 E">
                                      <p:cBhvr>
                                        <p:cTn id="47" dur="2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75 0.335926 E">
                                      <p:cBhvr>
                                        <p:cTn id="54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9.3E-005 L 0.137917 0.196574 E">
                                      <p:cBhvr>
                                        <p:cTn id="61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0 L 0.082778 0.20713 E">
                                      <p:cBhvr>
                                        <p:cTn id="68" dur="2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028 0.060093 L 0.027639 0.25963 E">
                                      <p:cBhvr>
                                        <p:cTn id="75" dur="2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986 -0.010185 C 0.117708 0.01713 0.293194 0.041296 0.229583 0.174444 C 0.165972 0.307593 -0.152778 0.55287 -0.240139 0.655741 C -0.3275 0.758611 -0.217778 0.685185 -0.207222 0.688704 C -0.196667 0.692222 -0.190764 0.677037 -0.187431 0.673333 E">
                                      <p:cBhvr>
                                        <p:cTn id="82" dur="20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"/>
          <p:cNvGrpSpPr/>
          <p:nvPr/>
        </p:nvGrpSpPr>
        <p:grpSpPr>
          <a:xfrm>
            <a:off x="304920" y="1981080"/>
            <a:ext cx="8381880" cy="3067200"/>
            <a:chOff x="304920" y="1981080"/>
            <a:chExt cx="8381880" cy="3067200"/>
          </a:xfrm>
        </p:grpSpPr>
        <p:grpSp>
          <p:nvGrpSpPr>
            <p:cNvPr id="1030" name="Group 3"/>
            <p:cNvGrpSpPr/>
            <p:nvPr/>
          </p:nvGrpSpPr>
          <p:grpSpPr>
            <a:xfrm>
              <a:off x="304920" y="1981080"/>
              <a:ext cx="8381880" cy="3067200"/>
              <a:chOff x="304920" y="1981080"/>
              <a:chExt cx="8381880" cy="3067200"/>
            </a:xfrm>
          </p:grpSpPr>
          <p:pic>
            <p:nvPicPr>
              <p:cNvPr id="1031" name="Picture 4" descr="未命名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981080"/>
                <a:ext cx="8381880" cy="30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Text Box 5"/>
              <p:cNvSpPr/>
              <p:nvPr/>
            </p:nvSpPr>
            <p:spPr>
              <a:xfrm>
                <a:off x="12175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Text Box 6"/>
              <p:cNvSpPr/>
              <p:nvPr/>
            </p:nvSpPr>
            <p:spPr>
              <a:xfrm>
                <a:off x="17809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Text Box 7"/>
              <p:cNvSpPr/>
              <p:nvPr/>
            </p:nvSpPr>
            <p:spPr>
              <a:xfrm>
                <a:off x="23605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8"/>
              <p:cNvSpPr/>
              <p:nvPr/>
            </p:nvSpPr>
            <p:spPr>
              <a:xfrm>
                <a:off x="297000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9"/>
              <p:cNvSpPr/>
              <p:nvPr/>
            </p:nvSpPr>
            <p:spPr>
              <a:xfrm>
                <a:off x="36097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Text Box 10"/>
              <p:cNvSpPr/>
              <p:nvPr/>
            </p:nvSpPr>
            <p:spPr>
              <a:xfrm>
                <a:off x="426564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Text Box 11"/>
              <p:cNvSpPr/>
              <p:nvPr/>
            </p:nvSpPr>
            <p:spPr>
              <a:xfrm>
                <a:off x="48751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Text Box 12"/>
              <p:cNvSpPr/>
              <p:nvPr/>
            </p:nvSpPr>
            <p:spPr>
              <a:xfrm>
                <a:off x="54385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13"/>
              <p:cNvSpPr/>
              <p:nvPr/>
            </p:nvSpPr>
            <p:spPr>
              <a:xfrm>
                <a:off x="604836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Text Box 14"/>
            <p:cNvSpPr/>
            <p:nvPr/>
          </p:nvSpPr>
          <p:spPr>
            <a:xfrm>
              <a:off x="6464520" y="35812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（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15"/>
            <p:cNvSpPr/>
            <p:nvPr/>
          </p:nvSpPr>
          <p:spPr>
            <a:xfrm>
              <a:off x="7057800" y="358128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（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Text Box 17"/>
          <p:cNvSpPr/>
          <p:nvPr/>
        </p:nvSpPr>
        <p:spPr>
          <a:xfrm>
            <a:off x="6659640" y="358128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721800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46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48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6145"/>
          <p:cNvGrpSpPr/>
          <p:nvPr/>
        </p:nvGrpSpPr>
        <p:grpSpPr>
          <a:xfrm>
            <a:off x="3261240" y="836640"/>
            <a:ext cx="2352960" cy="653760"/>
            <a:chOff x="3261240" y="836640"/>
            <a:chExt cx="2352960" cy="653760"/>
          </a:xfrm>
        </p:grpSpPr>
        <p:sp>
          <p:nvSpPr>
            <p:cNvPr id="1057" name="文本框 6146"/>
            <p:cNvSpPr/>
            <p:nvPr/>
          </p:nvSpPr>
          <p:spPr>
            <a:xfrm>
              <a:off x="3261240" y="909000"/>
              <a:ext cx="235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朵   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8" name="内容占位符 6147" descr="图片234456"/>
            <p:cNvPicPr/>
            <p:nvPr/>
          </p:nvPicPr>
          <p:blipFill>
            <a:blip r:embed="rId1"/>
            <a:stretch/>
          </p:blipFill>
          <p:spPr>
            <a:xfrm>
              <a:off x="4500720" y="836640"/>
              <a:ext cx="729000" cy="64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9" name="图片 6148" descr="图片234456"/>
          <p:cNvPicPr/>
          <p:nvPr/>
        </p:nvPicPr>
        <p:blipFill>
          <a:blip r:embed="rId2"/>
          <a:stretch/>
        </p:blipFill>
        <p:spPr>
          <a:xfrm>
            <a:off x="1189080" y="24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6149" descr="图片234456"/>
          <p:cNvPicPr/>
          <p:nvPr/>
        </p:nvPicPr>
        <p:blipFill>
          <a:blip r:embed="rId3"/>
          <a:stretch/>
        </p:blipFill>
        <p:spPr>
          <a:xfrm>
            <a:off x="2557440" y="2494080"/>
            <a:ext cx="1133640" cy="10080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6150" descr="图片234456"/>
          <p:cNvPicPr/>
          <p:nvPr/>
        </p:nvPicPr>
        <p:blipFill>
          <a:blip r:embed="rId4"/>
          <a:stretch/>
        </p:blipFill>
        <p:spPr>
          <a:xfrm>
            <a:off x="3924360" y="24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6151" descr="图片234456"/>
          <p:cNvPicPr/>
          <p:nvPr/>
        </p:nvPicPr>
        <p:blipFill>
          <a:blip r:embed="rId5"/>
          <a:stretch/>
        </p:blipFill>
        <p:spPr>
          <a:xfrm>
            <a:off x="5292720" y="2494080"/>
            <a:ext cx="1133640" cy="100800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6152" descr="图片234456"/>
          <p:cNvPicPr/>
          <p:nvPr/>
        </p:nvPicPr>
        <p:blipFill>
          <a:blip r:embed="rId6"/>
          <a:stretch/>
        </p:blipFill>
        <p:spPr>
          <a:xfrm>
            <a:off x="6661080" y="2494080"/>
            <a:ext cx="1133640" cy="10080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6153" descr="图片234456"/>
          <p:cNvPicPr/>
          <p:nvPr/>
        </p:nvPicPr>
        <p:blipFill>
          <a:blip r:embed="rId7"/>
          <a:stretch/>
        </p:blipFill>
        <p:spPr>
          <a:xfrm>
            <a:off x="1189080" y="42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154" descr="图片234456"/>
          <p:cNvPicPr/>
          <p:nvPr/>
        </p:nvPicPr>
        <p:blipFill>
          <a:blip r:embed="rId8"/>
          <a:stretch/>
        </p:blipFill>
        <p:spPr>
          <a:xfrm>
            <a:off x="2556000" y="42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155" descr="图片234456"/>
          <p:cNvPicPr/>
          <p:nvPr/>
        </p:nvPicPr>
        <p:blipFill>
          <a:blip r:embed="rId9"/>
          <a:stretch/>
        </p:blipFill>
        <p:spPr>
          <a:xfrm>
            <a:off x="3924360" y="42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156" descr="图片234456"/>
          <p:cNvPicPr/>
          <p:nvPr/>
        </p:nvPicPr>
        <p:blipFill>
          <a:blip r:embed="rId10"/>
          <a:stretch/>
        </p:blipFill>
        <p:spPr>
          <a:xfrm>
            <a:off x="5292720" y="4294080"/>
            <a:ext cx="1133640" cy="100800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6157" descr="图片234456"/>
          <p:cNvPicPr/>
          <p:nvPr/>
        </p:nvPicPr>
        <p:blipFill>
          <a:blip r:embed="rId11"/>
          <a:stretch/>
        </p:blipFill>
        <p:spPr>
          <a:xfrm>
            <a:off x="6659640" y="4294080"/>
            <a:ext cx="11332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069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70" name="圆角矩形 5" descr=""/>
            <p:cNvPicPr/>
            <p:nvPr/>
          </p:nvPicPr>
          <p:blipFill>
            <a:blip r:embed="rId12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1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72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13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30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1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2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3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4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3516840" y="1699920"/>
            <a:ext cx="1960920" cy="3417840"/>
            <a:chOff x="3516840" y="1699920"/>
            <a:chExt cx="1960920" cy="3417840"/>
          </a:xfrm>
        </p:grpSpPr>
        <p:sp>
          <p:nvSpPr>
            <p:cNvPr id="1081" name="Text Box 4"/>
            <p:cNvSpPr/>
            <p:nvPr/>
          </p:nvSpPr>
          <p:spPr>
            <a:xfrm>
              <a:off x="3516840" y="4292640"/>
              <a:ext cx="1960920" cy="8251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十位  个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5"/>
            <p:cNvSpPr/>
            <p:nvPr/>
          </p:nvSpPr>
          <p:spPr>
            <a:xfrm flipV="1">
              <a:off x="3635280" y="1699920"/>
              <a:ext cx="0" cy="25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6"/>
            <p:cNvSpPr/>
            <p:nvPr/>
          </p:nvSpPr>
          <p:spPr>
            <a:xfrm flipV="1">
              <a:off x="5435640" y="1699920"/>
              <a:ext cx="0" cy="25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Oval 10"/>
          <p:cNvSpPr/>
          <p:nvPr/>
        </p:nvSpPr>
        <p:spPr>
          <a:xfrm>
            <a:off x="5105520" y="407664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1"/>
          <p:cNvSpPr/>
          <p:nvPr/>
        </p:nvSpPr>
        <p:spPr>
          <a:xfrm>
            <a:off x="5105520" y="386064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2"/>
          <p:cNvSpPr/>
          <p:nvPr/>
        </p:nvSpPr>
        <p:spPr>
          <a:xfrm>
            <a:off x="5105520" y="3645000"/>
            <a:ext cx="64764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3"/>
          <p:cNvSpPr/>
          <p:nvPr/>
        </p:nvSpPr>
        <p:spPr>
          <a:xfrm>
            <a:off x="5105520" y="342900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14"/>
          <p:cNvSpPr/>
          <p:nvPr/>
        </p:nvSpPr>
        <p:spPr>
          <a:xfrm>
            <a:off x="5105520" y="3198960"/>
            <a:ext cx="64764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15"/>
          <p:cNvSpPr/>
          <p:nvPr/>
        </p:nvSpPr>
        <p:spPr>
          <a:xfrm>
            <a:off x="5105520" y="2967120"/>
            <a:ext cx="64764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16"/>
          <p:cNvSpPr/>
          <p:nvPr/>
        </p:nvSpPr>
        <p:spPr>
          <a:xfrm>
            <a:off x="5105520" y="273672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17"/>
          <p:cNvSpPr/>
          <p:nvPr/>
        </p:nvSpPr>
        <p:spPr>
          <a:xfrm>
            <a:off x="5105520" y="2521080"/>
            <a:ext cx="64764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18"/>
          <p:cNvSpPr/>
          <p:nvPr/>
        </p:nvSpPr>
        <p:spPr>
          <a:xfrm>
            <a:off x="5105520" y="229068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9"/>
          <p:cNvSpPr/>
          <p:nvPr/>
        </p:nvSpPr>
        <p:spPr>
          <a:xfrm>
            <a:off x="515016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9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6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97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5" name="Text Box 9"/>
          <p:cNvSpPr/>
          <p:nvPr/>
        </p:nvSpPr>
        <p:spPr>
          <a:xfrm>
            <a:off x="1477800" y="144360"/>
            <a:ext cx="100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楷体"/>
                <a:ea typeface="楷体"/>
              </a:rPr>
              <a:t>拨一拨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"/>
          <p:cNvGrpSpPr/>
          <p:nvPr/>
        </p:nvGrpSpPr>
        <p:grpSpPr>
          <a:xfrm>
            <a:off x="3732840" y="834840"/>
            <a:ext cx="1960920" cy="3417840"/>
            <a:chOff x="3732840" y="834840"/>
            <a:chExt cx="1960920" cy="3417840"/>
          </a:xfrm>
        </p:grpSpPr>
        <p:sp>
          <p:nvSpPr>
            <p:cNvPr id="1107" name="Text Box 5"/>
            <p:cNvSpPr/>
            <p:nvPr/>
          </p:nvSpPr>
          <p:spPr>
            <a:xfrm>
              <a:off x="3732840" y="3427560"/>
              <a:ext cx="1960920" cy="8251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十位  个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6"/>
            <p:cNvSpPr/>
            <p:nvPr/>
          </p:nvSpPr>
          <p:spPr>
            <a:xfrm flipV="1">
              <a:off x="3850920" y="834840"/>
              <a:ext cx="0" cy="25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 flipV="1">
              <a:off x="5651280" y="834840"/>
              <a:ext cx="0" cy="25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Oval 8"/>
          <p:cNvSpPr/>
          <p:nvPr/>
        </p:nvSpPr>
        <p:spPr>
          <a:xfrm>
            <a:off x="5364000" y="321156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9"/>
          <p:cNvSpPr/>
          <p:nvPr/>
        </p:nvSpPr>
        <p:spPr>
          <a:xfrm>
            <a:off x="5364000" y="299556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10"/>
          <p:cNvSpPr/>
          <p:nvPr/>
        </p:nvSpPr>
        <p:spPr>
          <a:xfrm>
            <a:off x="5364000" y="277956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11"/>
          <p:cNvSpPr/>
          <p:nvPr/>
        </p:nvSpPr>
        <p:spPr>
          <a:xfrm>
            <a:off x="5364000" y="2563920"/>
            <a:ext cx="64800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12"/>
          <p:cNvSpPr/>
          <p:nvPr/>
        </p:nvSpPr>
        <p:spPr>
          <a:xfrm>
            <a:off x="5364000" y="233352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13"/>
          <p:cNvSpPr/>
          <p:nvPr/>
        </p:nvSpPr>
        <p:spPr>
          <a:xfrm>
            <a:off x="5364000" y="210168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14"/>
          <p:cNvSpPr/>
          <p:nvPr/>
        </p:nvSpPr>
        <p:spPr>
          <a:xfrm>
            <a:off x="5364000" y="187164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15"/>
          <p:cNvSpPr/>
          <p:nvPr/>
        </p:nvSpPr>
        <p:spPr>
          <a:xfrm>
            <a:off x="5364000" y="165564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16"/>
          <p:cNvSpPr/>
          <p:nvPr/>
        </p:nvSpPr>
        <p:spPr>
          <a:xfrm>
            <a:off x="5364000" y="141120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7"/>
          <p:cNvSpPr/>
          <p:nvPr/>
        </p:nvSpPr>
        <p:spPr>
          <a:xfrm>
            <a:off x="5364000" y="47628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18"/>
          <p:cNvSpPr/>
          <p:nvPr/>
        </p:nvSpPr>
        <p:spPr>
          <a:xfrm>
            <a:off x="3521160" y="321156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9"/>
          <p:cNvSpPr/>
          <p:nvPr/>
        </p:nvSpPr>
        <p:spPr>
          <a:xfrm>
            <a:off x="2640960" y="5734080"/>
            <a:ext cx="43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十位上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个珠子表示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1"/>
          <p:cNvSpPr/>
          <p:nvPr/>
        </p:nvSpPr>
        <p:spPr>
          <a:xfrm>
            <a:off x="3492360" y="4437000"/>
            <a:ext cx="29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1   </a:t>
            </a: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12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126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流程图: 可选过程 9217"/>
          <p:cNvSpPr/>
          <p:nvPr/>
        </p:nvSpPr>
        <p:spPr>
          <a:xfrm>
            <a:off x="1979640" y="944640"/>
            <a:ext cx="1944720" cy="3313080"/>
          </a:xfrm>
          <a:prstGeom prst="flowChartAlternateProcess">
            <a:avLst/>
          </a:prstGeom>
          <a:solidFill>
            <a:srgbClr val="e6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流程图: 可选过程 9218"/>
          <p:cNvSpPr/>
          <p:nvPr/>
        </p:nvSpPr>
        <p:spPr>
          <a:xfrm>
            <a:off x="5438880" y="979560"/>
            <a:ext cx="1942920" cy="3313080"/>
          </a:xfrm>
          <a:prstGeom prst="flowChartAlternateProcess">
            <a:avLst/>
          </a:prstGeom>
          <a:solidFill>
            <a:srgbClr val="e6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9219"/>
          <p:cNvSpPr/>
          <p:nvPr/>
        </p:nvSpPr>
        <p:spPr>
          <a:xfrm>
            <a:off x="2268360" y="1160640"/>
            <a:ext cx="50328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椭圆 9220"/>
          <p:cNvSpPr/>
          <p:nvPr/>
        </p:nvSpPr>
        <p:spPr>
          <a:xfrm>
            <a:off x="2268360" y="1790640"/>
            <a:ext cx="50328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椭圆 9221"/>
          <p:cNvSpPr/>
          <p:nvPr/>
        </p:nvSpPr>
        <p:spPr>
          <a:xfrm>
            <a:off x="2268360" y="2421000"/>
            <a:ext cx="50328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椭圆 9222"/>
          <p:cNvSpPr/>
          <p:nvPr/>
        </p:nvSpPr>
        <p:spPr>
          <a:xfrm>
            <a:off x="2268360" y="3051000"/>
            <a:ext cx="50328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椭圆 9223"/>
          <p:cNvSpPr/>
          <p:nvPr/>
        </p:nvSpPr>
        <p:spPr>
          <a:xfrm>
            <a:off x="2268360" y="3679920"/>
            <a:ext cx="50328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椭圆 9224"/>
          <p:cNvSpPr/>
          <p:nvPr/>
        </p:nvSpPr>
        <p:spPr>
          <a:xfrm>
            <a:off x="3132000" y="1808280"/>
            <a:ext cx="50328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椭圆 9225"/>
          <p:cNvSpPr/>
          <p:nvPr/>
        </p:nvSpPr>
        <p:spPr>
          <a:xfrm>
            <a:off x="3132000" y="2438280"/>
            <a:ext cx="503280" cy="50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椭圆 9226"/>
          <p:cNvSpPr/>
          <p:nvPr/>
        </p:nvSpPr>
        <p:spPr>
          <a:xfrm>
            <a:off x="3132000" y="3068640"/>
            <a:ext cx="50328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椭圆 9227"/>
          <p:cNvSpPr/>
          <p:nvPr/>
        </p:nvSpPr>
        <p:spPr>
          <a:xfrm>
            <a:off x="3132000" y="3699000"/>
            <a:ext cx="50328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椭圆 9228"/>
          <p:cNvSpPr/>
          <p:nvPr/>
        </p:nvSpPr>
        <p:spPr>
          <a:xfrm>
            <a:off x="5726160" y="1141560"/>
            <a:ext cx="50472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椭圆 9229"/>
          <p:cNvSpPr/>
          <p:nvPr/>
        </p:nvSpPr>
        <p:spPr>
          <a:xfrm>
            <a:off x="5726160" y="1771560"/>
            <a:ext cx="504720" cy="50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椭圆 9230"/>
          <p:cNvSpPr/>
          <p:nvPr/>
        </p:nvSpPr>
        <p:spPr>
          <a:xfrm>
            <a:off x="5726160" y="2401920"/>
            <a:ext cx="50472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椭圆 9231"/>
          <p:cNvSpPr/>
          <p:nvPr/>
        </p:nvSpPr>
        <p:spPr>
          <a:xfrm>
            <a:off x="5726160" y="3032280"/>
            <a:ext cx="504720" cy="50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椭圆 9232"/>
          <p:cNvSpPr/>
          <p:nvPr/>
        </p:nvSpPr>
        <p:spPr>
          <a:xfrm>
            <a:off x="5726160" y="3660840"/>
            <a:ext cx="50472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椭圆 9233"/>
          <p:cNvSpPr/>
          <p:nvPr/>
        </p:nvSpPr>
        <p:spPr>
          <a:xfrm>
            <a:off x="6589800" y="1789200"/>
            <a:ext cx="50472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椭圆 9234"/>
          <p:cNvSpPr/>
          <p:nvPr/>
        </p:nvSpPr>
        <p:spPr>
          <a:xfrm>
            <a:off x="6589800" y="2419200"/>
            <a:ext cx="504720" cy="50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椭圆 9235"/>
          <p:cNvSpPr/>
          <p:nvPr/>
        </p:nvSpPr>
        <p:spPr>
          <a:xfrm>
            <a:off x="6589800" y="3049560"/>
            <a:ext cx="50472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椭圆 9236"/>
          <p:cNvSpPr/>
          <p:nvPr/>
        </p:nvSpPr>
        <p:spPr>
          <a:xfrm>
            <a:off x="6589800" y="3679920"/>
            <a:ext cx="50472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椭圆 9237"/>
          <p:cNvSpPr/>
          <p:nvPr/>
        </p:nvSpPr>
        <p:spPr>
          <a:xfrm>
            <a:off x="6589800" y="1123920"/>
            <a:ext cx="50472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9238"/>
          <p:cNvSpPr/>
          <p:nvPr/>
        </p:nvSpPr>
        <p:spPr>
          <a:xfrm>
            <a:off x="3593160" y="46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椭圆 9239"/>
          <p:cNvSpPr/>
          <p:nvPr/>
        </p:nvSpPr>
        <p:spPr>
          <a:xfrm>
            <a:off x="4273560" y="4726080"/>
            <a:ext cx="50472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9240"/>
          <p:cNvSpPr/>
          <p:nvPr/>
        </p:nvSpPr>
        <p:spPr>
          <a:xfrm>
            <a:off x="5005440" y="4726080"/>
            <a:ext cx="5032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241"/>
          <p:cNvSpPr/>
          <p:nvPr/>
        </p:nvSpPr>
        <p:spPr>
          <a:xfrm>
            <a:off x="3465720" y="5378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椭圆 9242"/>
          <p:cNvSpPr/>
          <p:nvPr/>
        </p:nvSpPr>
        <p:spPr>
          <a:xfrm>
            <a:off x="4273560" y="5445000"/>
            <a:ext cx="503280" cy="505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9243"/>
          <p:cNvSpPr/>
          <p:nvPr/>
        </p:nvSpPr>
        <p:spPr>
          <a:xfrm>
            <a:off x="5003640" y="5445000"/>
            <a:ext cx="50508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9244"/>
          <p:cNvGrpSpPr/>
          <p:nvPr/>
        </p:nvGrpSpPr>
        <p:grpSpPr>
          <a:xfrm>
            <a:off x="4356000" y="5589720"/>
            <a:ext cx="360360" cy="288360"/>
            <a:chOff x="4356000" y="5589720"/>
            <a:chExt cx="360360" cy="288360"/>
          </a:xfrm>
        </p:grpSpPr>
        <p:sp>
          <p:nvSpPr>
            <p:cNvPr id="1162" name="直接连接符 9245"/>
            <p:cNvSpPr/>
            <p:nvPr/>
          </p:nvSpPr>
          <p:spPr>
            <a:xfrm>
              <a:off x="4356000" y="5589720"/>
              <a:ext cx="360360" cy="128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直接连接符 9246"/>
            <p:cNvSpPr/>
            <p:nvPr/>
          </p:nvSpPr>
          <p:spPr>
            <a:xfrm flipV="1">
              <a:off x="4356000" y="5717880"/>
              <a:ext cx="36036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9247"/>
          <p:cNvGrpSpPr/>
          <p:nvPr/>
        </p:nvGrpSpPr>
        <p:grpSpPr>
          <a:xfrm>
            <a:off x="4356360" y="4864680"/>
            <a:ext cx="364680" cy="286560"/>
            <a:chOff x="4356360" y="4864680"/>
            <a:chExt cx="364680" cy="286560"/>
          </a:xfrm>
        </p:grpSpPr>
        <p:sp>
          <p:nvSpPr>
            <p:cNvPr id="1165" name="直接连接符 9248"/>
            <p:cNvSpPr/>
            <p:nvPr/>
          </p:nvSpPr>
          <p:spPr>
            <a:xfrm flipH="1" flipV="1">
              <a:off x="4356360" y="5036040"/>
              <a:ext cx="364680" cy="11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直接连接符 9249"/>
            <p:cNvSpPr/>
            <p:nvPr/>
          </p:nvSpPr>
          <p:spPr>
            <a:xfrm flipH="1">
              <a:off x="4356360" y="4864680"/>
              <a:ext cx="354600" cy="171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文本框 9250"/>
          <p:cNvSpPr/>
          <p:nvPr/>
        </p:nvSpPr>
        <p:spPr>
          <a:xfrm>
            <a:off x="4932720" y="46544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9251"/>
          <p:cNvSpPr/>
          <p:nvPr/>
        </p:nvSpPr>
        <p:spPr>
          <a:xfrm>
            <a:off x="5077440" y="537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17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1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172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4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组合 11265"/>
          <p:cNvGrpSpPr/>
          <p:nvPr/>
        </p:nvGrpSpPr>
        <p:grpSpPr>
          <a:xfrm>
            <a:off x="3816360" y="4078440"/>
            <a:ext cx="1584000" cy="1728720"/>
            <a:chOff x="3816360" y="4078440"/>
            <a:chExt cx="1584000" cy="1728720"/>
          </a:xfrm>
        </p:grpSpPr>
        <p:sp>
          <p:nvSpPr>
            <p:cNvPr id="1181" name="Text Box 18"/>
            <p:cNvSpPr/>
            <p:nvPr/>
          </p:nvSpPr>
          <p:spPr>
            <a:xfrm>
              <a:off x="4309200" y="40784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19"/>
            <p:cNvGrpSpPr/>
            <p:nvPr/>
          </p:nvGrpSpPr>
          <p:grpSpPr>
            <a:xfrm>
              <a:off x="4248000" y="4654800"/>
              <a:ext cx="781920" cy="546840"/>
              <a:chOff x="4248000" y="4654800"/>
              <a:chExt cx="781920" cy="546840"/>
            </a:xfrm>
          </p:grpSpPr>
          <p:sp>
            <p:nvSpPr>
              <p:cNvPr id="1183" name="Line 20"/>
              <p:cNvSpPr/>
              <p:nvPr/>
            </p:nvSpPr>
            <p:spPr>
              <a:xfrm flipH="1">
                <a:off x="4248000" y="4654800"/>
                <a:ext cx="42120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21"/>
              <p:cNvSpPr/>
              <p:nvPr/>
            </p:nvSpPr>
            <p:spPr>
              <a:xfrm>
                <a:off x="4669200" y="465480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5" name="矩形 11270"/>
            <p:cNvSpPr/>
            <p:nvPr/>
          </p:nvSpPr>
          <p:spPr>
            <a:xfrm>
              <a:off x="3816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1271"/>
            <p:cNvSpPr/>
            <p:nvPr/>
          </p:nvSpPr>
          <p:spPr>
            <a:xfrm>
              <a:off x="4896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1272"/>
          <p:cNvGrpSpPr/>
          <p:nvPr/>
        </p:nvGrpSpPr>
        <p:grpSpPr>
          <a:xfrm>
            <a:off x="6948360" y="4078440"/>
            <a:ext cx="1584000" cy="1728720"/>
            <a:chOff x="6948360" y="4078440"/>
            <a:chExt cx="1584000" cy="1728720"/>
          </a:xfrm>
        </p:grpSpPr>
        <p:sp>
          <p:nvSpPr>
            <p:cNvPr id="1188" name="Text Box 18"/>
            <p:cNvSpPr/>
            <p:nvPr/>
          </p:nvSpPr>
          <p:spPr>
            <a:xfrm>
              <a:off x="7441200" y="40784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Group 19"/>
            <p:cNvGrpSpPr/>
            <p:nvPr/>
          </p:nvGrpSpPr>
          <p:grpSpPr>
            <a:xfrm>
              <a:off x="7380000" y="4654800"/>
              <a:ext cx="781920" cy="546840"/>
              <a:chOff x="7380000" y="4654800"/>
              <a:chExt cx="781920" cy="546840"/>
            </a:xfrm>
          </p:grpSpPr>
          <p:sp>
            <p:nvSpPr>
              <p:cNvPr id="1190" name="Line 20"/>
              <p:cNvSpPr/>
              <p:nvPr/>
            </p:nvSpPr>
            <p:spPr>
              <a:xfrm flipH="1">
                <a:off x="7380000" y="4654800"/>
                <a:ext cx="42120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21"/>
              <p:cNvSpPr/>
              <p:nvPr/>
            </p:nvSpPr>
            <p:spPr>
              <a:xfrm>
                <a:off x="7801200" y="465480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矩形 11277"/>
            <p:cNvSpPr/>
            <p:nvPr/>
          </p:nvSpPr>
          <p:spPr>
            <a:xfrm>
              <a:off x="6948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11278"/>
            <p:cNvSpPr/>
            <p:nvPr/>
          </p:nvSpPr>
          <p:spPr>
            <a:xfrm>
              <a:off x="8028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组合 11279"/>
          <p:cNvGrpSpPr/>
          <p:nvPr/>
        </p:nvGrpSpPr>
        <p:grpSpPr>
          <a:xfrm>
            <a:off x="1905120" y="1771560"/>
            <a:ext cx="1584000" cy="1728720"/>
            <a:chOff x="1905120" y="1771560"/>
            <a:chExt cx="1584000" cy="1728720"/>
          </a:xfrm>
        </p:grpSpPr>
        <p:sp>
          <p:nvSpPr>
            <p:cNvPr id="1195" name="Text Box 18"/>
            <p:cNvSpPr/>
            <p:nvPr/>
          </p:nvSpPr>
          <p:spPr>
            <a:xfrm>
              <a:off x="2397960" y="1771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9"/>
            <p:cNvGrpSpPr/>
            <p:nvPr/>
          </p:nvGrpSpPr>
          <p:grpSpPr>
            <a:xfrm>
              <a:off x="2336760" y="2347920"/>
              <a:ext cx="781920" cy="546840"/>
              <a:chOff x="2336760" y="2347920"/>
              <a:chExt cx="781920" cy="546840"/>
            </a:xfrm>
          </p:grpSpPr>
          <p:sp>
            <p:nvSpPr>
              <p:cNvPr id="1197" name="Line 20"/>
              <p:cNvSpPr/>
              <p:nvPr/>
            </p:nvSpPr>
            <p:spPr>
              <a:xfrm flipH="1">
                <a:off x="2336760" y="2347920"/>
                <a:ext cx="42120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21"/>
              <p:cNvSpPr/>
              <p:nvPr/>
            </p:nvSpPr>
            <p:spPr>
              <a:xfrm>
                <a:off x="2757960" y="234792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矩形 11284"/>
            <p:cNvSpPr/>
            <p:nvPr/>
          </p:nvSpPr>
          <p:spPr>
            <a:xfrm>
              <a:off x="1905120" y="299592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矩形 11285"/>
            <p:cNvSpPr/>
            <p:nvPr/>
          </p:nvSpPr>
          <p:spPr>
            <a:xfrm>
              <a:off x="2985120" y="299592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11286"/>
          <p:cNvGrpSpPr/>
          <p:nvPr/>
        </p:nvGrpSpPr>
        <p:grpSpPr>
          <a:xfrm>
            <a:off x="684360" y="4078440"/>
            <a:ext cx="1584000" cy="1728720"/>
            <a:chOff x="684360" y="4078440"/>
            <a:chExt cx="1584000" cy="1728720"/>
          </a:xfrm>
        </p:grpSpPr>
        <p:sp>
          <p:nvSpPr>
            <p:cNvPr id="1202" name="Text Box 18"/>
            <p:cNvSpPr/>
            <p:nvPr/>
          </p:nvSpPr>
          <p:spPr>
            <a:xfrm>
              <a:off x="1177200" y="40784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19"/>
            <p:cNvGrpSpPr/>
            <p:nvPr/>
          </p:nvGrpSpPr>
          <p:grpSpPr>
            <a:xfrm>
              <a:off x="1115640" y="4654800"/>
              <a:ext cx="781920" cy="546840"/>
              <a:chOff x="1115640" y="4654800"/>
              <a:chExt cx="781920" cy="546840"/>
            </a:xfrm>
          </p:grpSpPr>
          <p:sp>
            <p:nvSpPr>
              <p:cNvPr id="1204" name="Line 20"/>
              <p:cNvSpPr/>
              <p:nvPr/>
            </p:nvSpPr>
            <p:spPr>
              <a:xfrm flipH="1">
                <a:off x="1115640" y="4654800"/>
                <a:ext cx="42084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21"/>
              <p:cNvSpPr/>
              <p:nvPr/>
            </p:nvSpPr>
            <p:spPr>
              <a:xfrm>
                <a:off x="1536840" y="465480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矩形 11291"/>
            <p:cNvSpPr/>
            <p:nvPr/>
          </p:nvSpPr>
          <p:spPr>
            <a:xfrm>
              <a:off x="684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1292"/>
            <p:cNvSpPr/>
            <p:nvPr/>
          </p:nvSpPr>
          <p:spPr>
            <a:xfrm>
              <a:off x="1764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组合 11293"/>
          <p:cNvGrpSpPr/>
          <p:nvPr/>
        </p:nvGrpSpPr>
        <p:grpSpPr>
          <a:xfrm>
            <a:off x="5721480" y="1771560"/>
            <a:ext cx="1584000" cy="1728720"/>
            <a:chOff x="5721480" y="1771560"/>
            <a:chExt cx="1584000" cy="1728720"/>
          </a:xfrm>
        </p:grpSpPr>
        <p:sp>
          <p:nvSpPr>
            <p:cNvPr id="1209" name="Text Box 18"/>
            <p:cNvSpPr/>
            <p:nvPr/>
          </p:nvSpPr>
          <p:spPr>
            <a:xfrm>
              <a:off x="6214320" y="1771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Group 19"/>
            <p:cNvGrpSpPr/>
            <p:nvPr/>
          </p:nvGrpSpPr>
          <p:grpSpPr>
            <a:xfrm>
              <a:off x="6153120" y="2347920"/>
              <a:ext cx="781920" cy="546840"/>
              <a:chOff x="6153120" y="2347920"/>
              <a:chExt cx="781920" cy="546840"/>
            </a:xfrm>
          </p:grpSpPr>
          <p:sp>
            <p:nvSpPr>
              <p:cNvPr id="1211" name="Line 20"/>
              <p:cNvSpPr/>
              <p:nvPr/>
            </p:nvSpPr>
            <p:spPr>
              <a:xfrm flipH="1">
                <a:off x="6153120" y="2347920"/>
                <a:ext cx="42120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>
                <a:off x="6574320" y="234792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矩形 11298"/>
            <p:cNvSpPr/>
            <p:nvPr/>
          </p:nvSpPr>
          <p:spPr>
            <a:xfrm>
              <a:off x="5721480" y="299592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11299"/>
            <p:cNvSpPr/>
            <p:nvPr/>
          </p:nvSpPr>
          <p:spPr>
            <a:xfrm>
              <a:off x="6801480" y="299592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文本框 11300"/>
          <p:cNvSpPr/>
          <p:nvPr/>
        </p:nvSpPr>
        <p:spPr>
          <a:xfrm>
            <a:off x="1980360" y="2995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11301"/>
          <p:cNvSpPr/>
          <p:nvPr/>
        </p:nvSpPr>
        <p:spPr>
          <a:xfrm>
            <a:off x="5796720" y="2995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11302"/>
          <p:cNvSpPr/>
          <p:nvPr/>
        </p:nvSpPr>
        <p:spPr>
          <a:xfrm>
            <a:off x="75636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11303"/>
          <p:cNvSpPr/>
          <p:nvPr/>
        </p:nvSpPr>
        <p:spPr>
          <a:xfrm>
            <a:off x="3852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11304"/>
          <p:cNvSpPr/>
          <p:nvPr/>
        </p:nvSpPr>
        <p:spPr>
          <a:xfrm>
            <a:off x="8028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11305"/>
          <p:cNvSpPr/>
          <p:nvPr/>
        </p:nvSpPr>
        <p:spPr>
          <a:xfrm>
            <a:off x="493308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1306"/>
          <p:cNvSpPr/>
          <p:nvPr/>
        </p:nvSpPr>
        <p:spPr>
          <a:xfrm>
            <a:off x="1836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11307"/>
          <p:cNvSpPr/>
          <p:nvPr/>
        </p:nvSpPr>
        <p:spPr>
          <a:xfrm>
            <a:off x="6877080" y="2995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11308"/>
          <p:cNvSpPr/>
          <p:nvPr/>
        </p:nvSpPr>
        <p:spPr>
          <a:xfrm>
            <a:off x="3060000" y="2995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11309"/>
          <p:cNvSpPr/>
          <p:nvPr/>
        </p:nvSpPr>
        <p:spPr>
          <a:xfrm>
            <a:off x="702144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图片 11310" descr="图片234456"/>
          <p:cNvPicPr/>
          <p:nvPr/>
        </p:nvPicPr>
        <p:blipFill>
          <a:blip r:embed="rId1"/>
          <a:stretch/>
        </p:blipFill>
        <p:spPr>
          <a:xfrm>
            <a:off x="1549440" y="730080"/>
            <a:ext cx="790560" cy="704880"/>
          </a:xfrm>
          <a:prstGeom prst="rect">
            <a:avLst/>
          </a:prstGeom>
          <a:ln w="0">
            <a:noFill/>
          </a:ln>
        </p:spPr>
      </p:pic>
      <p:sp>
        <p:nvSpPr>
          <p:cNvPr id="1226" name="文本框 11311"/>
          <p:cNvSpPr/>
          <p:nvPr/>
        </p:nvSpPr>
        <p:spPr>
          <a:xfrm>
            <a:off x="468360" y="8352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先用          摆一摆，再填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228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9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230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1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2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3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7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椭圆 12289"/>
          <p:cNvSpPr/>
          <p:nvPr/>
        </p:nvSpPr>
        <p:spPr>
          <a:xfrm>
            <a:off x="1260360" y="2368440"/>
            <a:ext cx="5975640" cy="3673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椭圆 12290"/>
          <p:cNvSpPr/>
          <p:nvPr/>
        </p:nvSpPr>
        <p:spPr>
          <a:xfrm>
            <a:off x="3419640" y="1782720"/>
            <a:ext cx="83484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椭圆 12291"/>
          <p:cNvSpPr/>
          <p:nvPr/>
        </p:nvSpPr>
        <p:spPr>
          <a:xfrm>
            <a:off x="4932360" y="1782720"/>
            <a:ext cx="83340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椭圆 12292"/>
          <p:cNvSpPr/>
          <p:nvPr/>
        </p:nvSpPr>
        <p:spPr>
          <a:xfrm>
            <a:off x="6445080" y="2503440"/>
            <a:ext cx="83376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椭圆 12293"/>
          <p:cNvSpPr/>
          <p:nvPr/>
        </p:nvSpPr>
        <p:spPr>
          <a:xfrm>
            <a:off x="6877080" y="4160880"/>
            <a:ext cx="83340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椭圆 12294"/>
          <p:cNvSpPr/>
          <p:nvPr/>
        </p:nvSpPr>
        <p:spPr>
          <a:xfrm>
            <a:off x="5651640" y="5311800"/>
            <a:ext cx="83484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椭圆 12295"/>
          <p:cNvSpPr/>
          <p:nvPr/>
        </p:nvSpPr>
        <p:spPr>
          <a:xfrm>
            <a:off x="4067280" y="5600880"/>
            <a:ext cx="834840" cy="801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椭圆 12296"/>
          <p:cNvSpPr/>
          <p:nvPr/>
        </p:nvSpPr>
        <p:spPr>
          <a:xfrm>
            <a:off x="2556000" y="5383080"/>
            <a:ext cx="83340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椭圆 12297"/>
          <p:cNvSpPr/>
          <p:nvPr/>
        </p:nvSpPr>
        <p:spPr>
          <a:xfrm>
            <a:off x="1187280" y="4735440"/>
            <a:ext cx="83376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椭圆 12298"/>
          <p:cNvSpPr/>
          <p:nvPr/>
        </p:nvSpPr>
        <p:spPr>
          <a:xfrm>
            <a:off x="1979640" y="2143080"/>
            <a:ext cx="83484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椭圆 12299"/>
          <p:cNvSpPr/>
          <p:nvPr/>
        </p:nvSpPr>
        <p:spPr>
          <a:xfrm>
            <a:off x="900000" y="3224160"/>
            <a:ext cx="83340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12300"/>
          <p:cNvSpPr/>
          <p:nvPr/>
        </p:nvSpPr>
        <p:spPr>
          <a:xfrm>
            <a:off x="5150160" y="1843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12301"/>
          <p:cNvSpPr/>
          <p:nvPr/>
        </p:nvSpPr>
        <p:spPr>
          <a:xfrm>
            <a:off x="6663240" y="2563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12302"/>
          <p:cNvSpPr/>
          <p:nvPr/>
        </p:nvSpPr>
        <p:spPr>
          <a:xfrm>
            <a:off x="3565800" y="184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文本框 12303"/>
          <p:cNvSpPr/>
          <p:nvPr/>
        </p:nvSpPr>
        <p:spPr>
          <a:xfrm>
            <a:off x="2197440" y="2203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文本框 12304"/>
          <p:cNvSpPr/>
          <p:nvPr/>
        </p:nvSpPr>
        <p:spPr>
          <a:xfrm>
            <a:off x="1117800" y="328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12305"/>
          <p:cNvSpPr/>
          <p:nvPr/>
        </p:nvSpPr>
        <p:spPr>
          <a:xfrm>
            <a:off x="7094880" y="4221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12306"/>
          <p:cNvSpPr/>
          <p:nvPr/>
        </p:nvSpPr>
        <p:spPr>
          <a:xfrm>
            <a:off x="5869440" y="537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12307"/>
          <p:cNvSpPr/>
          <p:nvPr/>
        </p:nvSpPr>
        <p:spPr>
          <a:xfrm>
            <a:off x="4285080" y="5661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12308"/>
          <p:cNvSpPr/>
          <p:nvPr/>
        </p:nvSpPr>
        <p:spPr>
          <a:xfrm>
            <a:off x="2773800" y="5514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12309"/>
          <p:cNvSpPr/>
          <p:nvPr/>
        </p:nvSpPr>
        <p:spPr>
          <a:xfrm>
            <a:off x="1405440" y="479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直接连接符 12310"/>
          <p:cNvSpPr/>
          <p:nvPr/>
        </p:nvSpPr>
        <p:spPr>
          <a:xfrm>
            <a:off x="1763640" y="3995640"/>
            <a:ext cx="2433600" cy="147024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直接连接符 12311"/>
          <p:cNvSpPr/>
          <p:nvPr/>
        </p:nvSpPr>
        <p:spPr>
          <a:xfrm>
            <a:off x="2700360" y="3044880"/>
            <a:ext cx="3753000" cy="12682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直接连接符 12312"/>
          <p:cNvSpPr/>
          <p:nvPr/>
        </p:nvSpPr>
        <p:spPr>
          <a:xfrm flipH="1">
            <a:off x="3203280" y="2906640"/>
            <a:ext cx="625320" cy="22719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直接连接符 12313"/>
          <p:cNvSpPr/>
          <p:nvPr/>
        </p:nvSpPr>
        <p:spPr>
          <a:xfrm>
            <a:off x="5292720" y="2895480"/>
            <a:ext cx="554040" cy="21384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直接连接符 12314"/>
          <p:cNvSpPr/>
          <p:nvPr/>
        </p:nvSpPr>
        <p:spPr>
          <a:xfrm flipV="1">
            <a:off x="2124000" y="3352320"/>
            <a:ext cx="4168800" cy="15368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12316"/>
          <p:cNvSpPr/>
          <p:nvPr/>
        </p:nvSpPr>
        <p:spPr>
          <a:xfrm>
            <a:off x="468360" y="1052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哪两个数合起来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26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7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268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6" name="Text Box 9"/>
          <p:cNvSpPr/>
          <p:nvPr/>
        </p:nvSpPr>
        <p:spPr>
          <a:xfrm>
            <a:off x="1477800" y="144360"/>
            <a:ext cx="100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楷体"/>
                <a:ea typeface="楷体"/>
              </a:rPr>
              <a:t>做一做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8:2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